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8E0-9E4A-493F-9C15-FC8A4A96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8D7-594F-4B24-B473-CA4C7B89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104-4B21-45F4-9CEF-AC6A645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425-CC2B-48EB-934A-1081BF63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9313-2CD2-48A3-A799-6AC47D9B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8FB1-D43E-432D-A9E8-6311B8FE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D946-45A7-4AA8-A90A-565E303B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D68D-624B-4D5D-A72C-627B1142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F1F-6C3B-47BE-B9FF-08BA292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DF57-B4DE-430D-92E1-E797AFE9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8C90-E649-4DC2-B8D6-3766553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8A7-A5DD-4B7B-804F-36CEA7D7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292D-CAB8-4475-BB88-CC074E20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479D-66A7-4F8D-9845-5EAEC855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BB92-55C6-4AEB-A25E-B0187F05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B07-525D-47FA-9D38-C505E26F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8716-76E3-4AD0-88B2-277DAB55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B54-9D2C-4AD6-B4B3-E6AEB649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AAA-8886-4639-8974-D5EDC4D3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3D2-D16C-4098-A99C-2D7E907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704-CA4E-43DA-8D40-A72DD38D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F37-101F-4079-B9A1-BE009E41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64D-A100-4B4E-BFE8-2A6860CF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0D5-DFE6-41D0-A9D6-3D7D2DB1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F5D7-F31D-4955-B5D0-B18125705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EF6A-F7BF-4743-95A4-A9BAA4BD7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lgebra 2A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19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ational func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(x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P and Q are polynomials are Q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≠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of the following are rational func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(x) = 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2x+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(x)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3x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Times New Roman"/>
                <a:ea typeface="Arial"/>
              </a:rPr>
              <a:t>2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-2x+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x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(x) = 3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+ 3√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implifying rational funct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+2x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makes the denominator equal zero?   This represents a hole in the grap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simplif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(x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(x+1) (x+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ug the “hole” into the simplified expression to find its ordered p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1 +1 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dered pair is (-1,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raphing a rational fun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(x)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+2x 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ied: x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s the hole?   Mark the hole on the graph with an open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8684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 rational expr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rational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 rational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 rational fun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 little vocabula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ion: a combination of numbers and mathematical operations that does not contain an equal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: an equation for which each input has one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tional: the ratio of two integers (for numbers), the ratio of two polynomials (for expressions or func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: non-reducible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What makes an expression undefined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 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s a fraction undefined?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must the denominator equ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5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=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expression is undefined when x=5 beca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un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 BY ZERO MAKES AN EXPRESSION UN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How do you evaluate a rational expression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x 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x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expression above for x=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g 4 in for 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3(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(4)-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calculator, key in “3 * 4 / (2 * 4 -5)” and press 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nswer is 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implifying rational expressio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damental principle of rational expres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Q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≠0 and R≠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o, when faced with a rational expression, look for a common factor in order to simplif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s the common fact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3 *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 *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1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 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5     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simplify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4x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y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x-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x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x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x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+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4x-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6a0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omething to help you fact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-b = -(-a+b) = -(b-a) = -1(b-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-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-(b-a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wor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x-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-x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teps for simplifying any rational express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ly factor both the numerator and the denominat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ide the numerator and denominator by all common fac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resulting expression will be in the simplest form (in the lowest term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1T14:37:55Z</dcterms:created>
  <dc:creator>nuhs</dc:creator>
  <dc:description/>
  <dc:language>en-US</dc:language>
  <cp:lastModifiedBy>nuhs</cp:lastModifiedBy>
  <dcterms:modified xsi:type="dcterms:W3CDTF">2007-09-19T20:37:03Z</dcterms:modified>
  <cp:revision>14</cp:revision>
  <dc:subject/>
  <dc:title>Algebra 2A</dc:title>
</cp:coreProperties>
</file>